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84FF-CC71-4CC0-A222-6A1C3AB6F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5248-A786-41F9-941C-15BE4C3CE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FE9ADB-90DB-406A-8989-5ED3575FE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F45D7F-EA9B-4FE6-83F5-F174A4595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7E8F34-1740-439B-9651-FD6CED09F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F5E7D5-A37F-4FDB-9A7B-B411EC278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C7E2FE-A323-454D-83AB-5121EEF59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6043F2-D02F-4BCA-A7D1-5852AAC00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8BE47F-0777-43DA-B4F9-9E50A014A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125BCC-962E-46B5-BDC6-513E7E6E0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DA146F-7096-40C5-BBFA-541B04D35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68B25D-D7AD-4A16-BCA2-463371207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7C07-703E-4EFD-BBBE-5E28EE237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3848F1-EFC2-4C04-B989-B2DC43AC6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EBF63E-B657-444F-AC9A-A8F89661B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9F0E35-D4C3-4262-999C-9190E6B6C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523DE9-02AE-406E-9DA3-CA0AC3E94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64D5C9-3025-4CD1-9C30-9CF91A4FB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46ABD8-AA6B-4E4C-9CEC-EA48AEBAE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66F352-BEDF-4784-80F7-1AB4A9A1B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6C3C82-42D4-4315-B442-22E6408A9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0CA17B-EF11-4620-861E-F1B4D1608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432C8C-27F1-488A-A320-CF79E856F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9B14-546E-4C1B-8FFB-043EBBF6F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893136-9EF5-4A29-BE13-A1CAFBA5D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0603E7-17CE-4464-80F9-FD068EEEF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9D3342-CD9B-494F-B9B2-EC76028B7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18ADD2-5D97-4702-B890-1F7E8B1DB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11C608-710C-4122-B7E4-1A1839270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39B734-B6EC-4369-89BC-BC36154AB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F0168B-B840-4DFE-88F7-09FA33D49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9F91E1-90C7-414B-AAD5-9D7C5229A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20B7E4-CF53-447A-90DF-4CE01A848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2D5E0B-5CF9-49E9-B25C-AB0BD93C8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72D0F-5556-46B9-B897-BE255CA69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A3D57A-4E8D-4BDC-8A05-CECA4CB16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419708-8655-49DF-84C0-5F9F8AE30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015A90-B376-4D38-B11E-81FC71F0A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754568-5E00-4450-87F2-59CAA44C8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41C708-5B4B-4B34-AB7C-444DFBADB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52CB64-63F9-4D3A-A368-2A13DF835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36AC2F-BACD-4C43-8583-5466A589A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9D6AB4-7DF7-4572-B4C4-FCFA83BB5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842C20-4615-4B7A-9BBB-51091BC6D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F464C6-D1EF-40AA-BD59-C016912A5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5F4DB-AA18-4391-8092-1586EBABA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9145FF-9370-477C-BC3C-5664D6971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22D391-2A4C-4325-931B-01CC8798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859DFC-C4A9-4B5D-8273-B5E2EE448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AFA487-D562-49C5-8CDC-99B279CA2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1BC303-ADAC-4D1C-AF92-C6F706E8E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F80B6-F063-4AFB-903B-4B7BA395C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B78E5-EF43-4B6E-B3BD-D90522AAC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E7B22-05E8-4459-AA9D-44DCBA74C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8E70A-FF76-4924-BCEC-4C9110AD9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BF8DB-4942-4476-A50B-E87BCAD12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993B-58FA-4837-A482-1EE83507F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739B0-C1D7-4160-9124-7214DFA74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9DFAD-E46F-4575-AAA6-5BCA768F3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2851D-996F-48F8-815E-4C7F54185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9E152-724E-490A-AE42-833D436AD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7E978-0E45-4402-9054-C0B1E2F80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7CC5E-CFAE-4FC6-8A08-E454C0160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3889B-BD8D-4AED-BCDA-679141779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8BF23-2261-4AE6-A290-63154FEA3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2D253-C211-4DBB-82D5-11A9D6375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25020-010C-413A-B074-6F89DB277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E446-FF1C-4C1D-A1AD-80CE5F944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BCB76-9061-4DEF-9C16-F8702BC85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9CBE3-72A3-4888-8C8F-D1A2C4DD7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A85C7-9DB8-47BF-8FAB-C4891124A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2B41B-2B64-4DA7-AF8A-ABAF95EC1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ECBAA-FDEB-428C-AB6B-787B543C0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5A88A-52F8-4828-976E-E83882EC4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47047-19C9-4743-8098-05392E0A5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75132-EE1F-4A4A-8966-EEB7E2419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9C27E-4C1A-4435-B23C-83D5F09A0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DB62C-9A71-44C5-96DC-1E496BF12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3138-8035-482B-B784-A7BDF1601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C0036-18E3-42F3-B85A-EDD8DA132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052A5-C3AC-4CC2-8C4F-A5E480221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79F2A-1E4B-4D32-AE98-8655B8652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55EE19-A47E-48B8-A6B9-71EB4877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D4568-4298-4309-A5F9-E7384EA81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5C0BF-A76B-4678-8E23-DEAEE59C2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E246C-F219-49E9-B389-9B402E7B4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E4DE82-2767-4951-B130-5C1728AA7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676EA-0059-4FBA-A733-D1E46A4E3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7F56B8-8F8A-4CAD-A0AC-873AAE305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7807-FA6A-4C9C-A6A2-31B66637B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802DA1-62E8-4EB0-BCF3-6849537DD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7A0622-E938-4272-A0C8-D43D2A5F3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416E94-7B51-4681-8852-2CE4B334F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9CE631-9545-45A8-9708-D491BF0A8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7D72B2-CC91-4649-9BEA-BE28A1B86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C655C1-C9C3-443A-9109-95B4E6823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2B9EC0-D239-44F2-9E3F-485F52E6F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1A7C0E-3DDD-4CBF-ACBF-70095E8DD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80E1F7-37D3-4863-B866-5F70C5C30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9B703E-01CB-4A77-B763-6D143E197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D68F-93A6-4CBF-9773-514290C38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B2B277-E305-4762-8DED-6DC22CC67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827860-5D8F-4E96-B953-9F9B30B2E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5D20C0-9152-45FA-BB3B-7999BB228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70533C-2FD4-41EE-B136-ADEB30674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B6FE6B-DAB0-49BD-93E4-A9CA65BE0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5CEDBA-2686-4E42-8D73-8F14CADC0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B7E7A4-BD62-4001-84B8-BE94D1381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CC27A8-7425-4793-9D17-6752B6A56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D6FE89-2CB9-4F0D-9727-DFD8AA046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B5E1DA-8BAF-4CC7-8211-59A4A019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4503-4015-4C13-BD56-5C1E85CB8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A8DCB1-40D4-4580-94B8-D5F2AAD8B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C15764-CFE3-4057-8B65-915E5B552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BE4F46-F961-44F7-B059-9672F6416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C88DBC-9D2E-43B8-8CBD-E5347504F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12A182-56F1-436F-862F-AFCC2C6FE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B70F80-39C7-4A00-8F04-E3355E8A0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82FC07-D698-406B-9036-6A3654F7D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9CEFC3-76D7-436B-9978-7828214F2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4A02EC-19D3-4495-8B6F-C94611B8B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C5A827-C143-46EA-84AF-BAB8F28B9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8606-7F21-4438-8E39-A5889EDF4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980D19-CA51-4CAF-BB60-A9213CCE1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AF1970-BF0E-4EB9-89A1-C49DCBB06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433D53-3097-4853-8C9A-B8970825E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96FEC4-4DA8-49D9-8D3B-2F101899B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C3ABE1-A2E0-43E8-A8D8-04C6F0533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C3BCAB-8C67-43E7-8EDC-6A0617AF9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3069EE-82F0-4A7C-9A46-E09E6B352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5E81E3-096E-4056-AE43-33AC7FD66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A0423C-3075-4C75-9AFB-2968F86B8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037DEC-C1D8-4E6B-BF61-6AE6C2629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B0B7-816B-4D3D-8997-0B58CB509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19604D-ED34-4C10-90C0-CE7274E0D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F5ABA1-69A9-431C-AACF-087D9D54E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E2D385-FCF3-4A2A-B6D3-4E2D3D72F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01B3C7-80D4-4132-B446-92ED256A4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72DB31-CF3B-4742-9727-CDA07997B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9B5D80-7946-4076-87A3-4547F0FAA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617699-4ADE-4414-97DD-44D4A3375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3A16EA-318F-408E-98D3-BF9136C83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DCD50E-D10B-47C9-852A-AB6ABB2BA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3A1A49-2F56-479F-BB40-7B33F0AC5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7AC78F-E823-48E8-BA51-1CBBD9D31780}" type="datetime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D67D8C-2AA0-4458-BCDE-74BF9D48786F}" type="datetime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dapted from Kucan &amp; Palincsar IES 2009-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B4CCBA-8BB2-4A3B-9305-C815EF0AB35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9C9E9E-6169-4607-9267-75EB1238FE47}" type="datetime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dapted from Kucan &amp; Palincsar IES 2009-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E5C376-2997-4BA1-9217-0A4B2CE576C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E4B4E8-0FB0-4A52-8E04-FE12E0676504}" type="datetime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dapted from Kucan &amp; Palincsar IES 2009-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9D0CF4-5E59-464E-870D-558E1E6455B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CFC943-40DA-4132-98AC-CCC70353EAB8}" type="datetime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dapted from Kucan &amp; Palincsar IES 2009-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348068-088F-4F5F-A2E0-74AC3B14AF9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4C5E1E-83B5-475A-9ECF-D89BE06C2771}" type="datetime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dapted from Kucan &amp; Palincsar IES 2009-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B1B716-1A81-4D85-9ECE-F33984C1392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5E3ACA-047D-47DB-8C16-F56491BE549A}" type="datetime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dapted from Kucan &amp; Palincsar IES 2009-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248F59-5B12-4337-91A6-3A9D8F40170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ECA8E1-22B0-44F9-8B87-D234A2CF9A74}" type="datetime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dapted from Kucan &amp; Palincsar IES 2009-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CFABB2-7386-4B89-9487-E605EDBD4B7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3BB9BA-BF48-4E15-B48D-BC80695D732A}" type="datetime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dapted from Kucan &amp; Palincsar IES 2009-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4AFD63-7F0F-446C-9A57-E20A3C56B1C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FF3130-BC3D-4A58-8F97-F1CFBB85877A}" type="datetime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dapted from Kucan &amp; Palincsar IES 2009-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08BE66-F8AF-497C-97C2-10F6050C4F7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00956D-B03B-4CA2-9086-349579F70211}" type="datetime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dapted from Kucan &amp; Palincsar IES 2009-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167619-ECC6-4184-840A-7608FA1A066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7B6B72-8010-4865-B0BD-369594EC3532}" type="datetime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dapted from Kucan &amp; Palincsar IES 2009-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1539ED-DA75-4761-BAA0-EEA54A27C63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lexile.com/fab/" TargetMode="Externa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lexile.com/about-lexile/lexile-video/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D3490B-5F1D-463A-9C14-1DC94AA474A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ole of the Text in Comprehen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Oval 7"/>
          <p:cNvSpPr/>
          <p:nvPr/>
        </p:nvSpPr>
        <p:spPr>
          <a:xfrm>
            <a:off x="4572000" y="2819520"/>
            <a:ext cx="1600200" cy="160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Oval 8"/>
          <p:cNvSpPr/>
          <p:nvPr/>
        </p:nvSpPr>
        <p:spPr>
          <a:xfrm>
            <a:off x="4114800" y="4038480"/>
            <a:ext cx="1600200" cy="1524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Oval 9"/>
          <p:cNvSpPr/>
          <p:nvPr/>
        </p:nvSpPr>
        <p:spPr>
          <a:xfrm>
            <a:off x="2666880" y="2130480"/>
            <a:ext cx="4267440" cy="396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Text Box 11"/>
          <p:cNvSpPr/>
          <p:nvPr/>
        </p:nvSpPr>
        <p:spPr>
          <a:xfrm>
            <a:off x="4305240" y="4648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Text Box 14"/>
          <p:cNvSpPr/>
          <p:nvPr/>
        </p:nvSpPr>
        <p:spPr>
          <a:xfrm>
            <a:off x="4876920" y="32767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tiv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Text Box 15"/>
          <p:cNvSpPr/>
          <p:nvPr/>
        </p:nvSpPr>
        <p:spPr>
          <a:xfrm>
            <a:off x="3924360" y="222408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ciocultur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 Box 16"/>
          <p:cNvSpPr/>
          <p:nvPr/>
        </p:nvSpPr>
        <p:spPr>
          <a:xfrm>
            <a:off x="4419720" y="5562720"/>
            <a:ext cx="118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ex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Oval 6"/>
          <p:cNvSpPr/>
          <p:nvPr/>
        </p:nvSpPr>
        <p:spPr>
          <a:xfrm>
            <a:off x="3314880" y="2933640"/>
            <a:ext cx="1562040" cy="1600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Text Box 10"/>
          <p:cNvSpPr/>
          <p:nvPr/>
        </p:nvSpPr>
        <p:spPr>
          <a:xfrm>
            <a:off x="3676680" y="3505320"/>
            <a:ext cx="87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Line 17"/>
          <p:cNvSpPr/>
          <p:nvPr/>
        </p:nvSpPr>
        <p:spPr>
          <a:xfrm>
            <a:off x="1371600" y="2130480"/>
            <a:ext cx="2305080" cy="1374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TextBox 14"/>
          <p:cNvSpPr/>
          <p:nvPr/>
        </p:nvSpPr>
        <p:spPr>
          <a:xfrm>
            <a:off x="3539880" y="6245280"/>
            <a:ext cx="289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AND READING REPOR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7ADC74-741F-46F1-968A-843DFF1E411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523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andard #10: Text Complex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itle 1"/>
          <p:cNvSpPr/>
          <p:nvPr/>
        </p:nvSpPr>
        <p:spPr>
          <a:xfrm>
            <a:off x="914400" y="6157800"/>
            <a:ext cx="82296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mmon Core Standa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46" name="Picture 7" descr="Screen shot 2011-10-04 at 10.06.46 PM.png"/>
          <p:cNvPicPr/>
          <p:nvPr/>
        </p:nvPicPr>
        <p:blipFill>
          <a:blip r:embed="rId2"/>
          <a:stretch/>
        </p:blipFill>
        <p:spPr>
          <a:xfrm>
            <a:off x="546120" y="2616120"/>
            <a:ext cx="8051760" cy="3479760"/>
          </a:xfrm>
          <a:prstGeom prst="rect">
            <a:avLst/>
          </a:prstGeom>
          <a:ln w="0">
            <a:noFill/>
          </a:ln>
        </p:spPr>
      </p:pic>
      <p:sp>
        <p:nvSpPr>
          <p:cNvPr id="547" name="Title 1"/>
          <p:cNvSpPr/>
          <p:nvPr/>
        </p:nvSpPr>
        <p:spPr>
          <a:xfrm>
            <a:off x="546120" y="12952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ad and comprehe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mple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literary and informational text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dependent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oficient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ample In Action</a:t>
            </a:r>
            <a:br>
              <a:rPr sz="4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arrative of the Life of Frederick Dougla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Gr. 6-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litative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s of Mea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guage Conventionality and C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 Deman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ative Measur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o-Metrix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der/Task Consider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ommended Placemen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is text in Grades 6-8 complexity b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23C739-AD85-4726-80C2-CD2A7E8A8D5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You 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a book from your collec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your handout to guide your thinking about each of the important text featu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Lexile Book Search to determine the lexile leve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is book a good fit for this grade range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A62A6B-1C29-425E-9257-EA6963A5113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4" name="Picture 5" descr="Screen shot 2011-10-04 at 10.32.11 PM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495680" y="3809880"/>
            <a:ext cx="3048120" cy="10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. 4: Differentiation (p. 102-111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D21 Program Overview (on the wiki) with 1 page reading guide **different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ing up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ategy Interview – due next Tuesday (Oct. 11) OR Thursday (Oct. 13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t. 13:  Quiz #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09D1B1-D65E-4D26-89AB-0D00DFD4443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dapted from Kucan &amp; Palincsar IES 2009-201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3F7FBF-EDE0-4371-8855-1BAC8F6EAF9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7" name="Picture 5" descr="Screen shot 2011-10-04 at 9.34.07 PM.png"/>
          <p:cNvPicPr/>
          <p:nvPr/>
        </p:nvPicPr>
        <p:blipFill>
          <a:blip r:embed="rId2"/>
          <a:stretch/>
        </p:blipFill>
        <p:spPr>
          <a:xfrm>
            <a:off x="3070080" y="0"/>
            <a:ext cx="5921640" cy="6858000"/>
          </a:xfrm>
          <a:prstGeom prst="rect">
            <a:avLst/>
          </a:prstGeom>
          <a:ln w="0">
            <a:noFill/>
          </a:ln>
        </p:spPr>
      </p:pic>
      <p:pic>
        <p:nvPicPr>
          <p:cNvPr id="508" name="TextBox 6" descr=""/>
          <p:cNvPicPr/>
          <p:nvPr/>
        </p:nvPicPr>
        <p:blipFill>
          <a:blip r:embed="rId3"/>
          <a:stretch/>
        </p:blipFill>
        <p:spPr>
          <a:xfrm>
            <a:off x="182520" y="1994040"/>
            <a:ext cx="2895480" cy="12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makes a text difficult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rt and discuss …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023937-E923-48D9-8F34-857B3162450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makes a text difficult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rnett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est level; Accessibility (emotional &amp; cognitive); Readability (text difficulty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level (the read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pendent (95-99% accuracy; 90% com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al (90-95% accuracy; 75% com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ustrational (&gt;90% accuracy; &gt; 50% com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ening (comprehend 75% key concep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CD800C-60F4-4002-9CB0-E8A074C13F3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makes a text difficult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ntas &amp; Pinnell (Level A-Z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mes 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guage &amp; Literary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cabulary and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tence Complex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k and print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906A67-5352-47C7-BB7B-D9D2C74C000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TextBox 5"/>
          <p:cNvSpPr/>
          <p:nvPr/>
        </p:nvSpPr>
        <p:spPr>
          <a:xfrm>
            <a:off x="5450760" y="2631960"/>
            <a:ext cx="341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e handout for mo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bout leve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519" name="Elbow Connector 7"/>
          <p:cNvCxnSpPr/>
          <p:nvPr/>
        </p:nvCxnSpPr>
        <p:spPr>
          <a:xfrm flipH="1" rot="16200000">
            <a:off x="6418080" y="2039400"/>
            <a:ext cx="727560" cy="4579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, what’s readability?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how do you calculate it?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C86BC7-B3B7-42AA-B601-49F8319A1BC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ry Readability Formula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=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 of sentences and # of syll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C563DE-B13A-4A15-A3B3-2E8BAD5F973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4" name="Picture 5" descr="Screen shot 2011-10-04 at 9.30.52 PM.png"/>
          <p:cNvPicPr/>
          <p:nvPr/>
        </p:nvPicPr>
        <p:blipFill>
          <a:blip r:embed="rId2"/>
          <a:stretch/>
        </p:blipFill>
        <p:spPr>
          <a:xfrm>
            <a:off x="0" y="1828800"/>
            <a:ext cx="9144000" cy="3787920"/>
          </a:xfrm>
          <a:prstGeom prst="rect">
            <a:avLst/>
          </a:prstGeom>
          <a:ln w="0">
            <a:noFill/>
          </a:ln>
        </p:spPr>
      </p:pic>
      <p:sp>
        <p:nvSpPr>
          <p:cNvPr id="525" name="TextBox 6"/>
          <p:cNvSpPr/>
          <p:nvPr/>
        </p:nvSpPr>
        <p:spPr>
          <a:xfrm>
            <a:off x="1307520" y="5783400"/>
            <a:ext cx="681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ich of the FIVE factors of comprehension?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TextBox 7"/>
          <p:cNvSpPr/>
          <p:nvPr/>
        </p:nvSpPr>
        <p:spPr>
          <a:xfrm>
            <a:off x="3639960" y="6259680"/>
            <a:ext cx="189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NE: TEXT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exile Level = 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ntence length and word frequ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5924A7-CC42-405E-B7BE-0DBC12A0FC0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9" name="Picture 5" descr="Screen shot 2011-10-04 at 9.42.03 PM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901960" y="1790640"/>
            <a:ext cx="5937120" cy="438156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6" descr="Screen shot 2011-10-04 at 9.41.24 PM.png"/>
          <p:cNvPicPr/>
          <p:nvPr/>
        </p:nvPicPr>
        <p:blipFill>
          <a:blip r:embed="rId4"/>
          <a:stretch/>
        </p:blipFill>
        <p:spPr>
          <a:xfrm>
            <a:off x="295200" y="1828800"/>
            <a:ext cx="2314800" cy="2190600"/>
          </a:xfrm>
          <a:prstGeom prst="rect">
            <a:avLst/>
          </a:prstGeom>
          <a:ln w="0">
            <a:noFill/>
          </a:ln>
        </p:spPr>
      </p:pic>
      <p:sp>
        <p:nvSpPr>
          <p:cNvPr id="531" name="TextBox 7"/>
          <p:cNvSpPr/>
          <p:nvPr/>
        </p:nvSpPr>
        <p:spPr>
          <a:xfrm>
            <a:off x="3809520" y="6259680"/>
            <a:ext cx="351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WO: TEXT &amp; READER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TextBox 8"/>
          <p:cNvSpPr/>
          <p:nvPr/>
        </p:nvSpPr>
        <p:spPr>
          <a:xfrm>
            <a:off x="-48240" y="4724280"/>
            <a:ext cx="280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ich of th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VE factors of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rehension?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ext Complexity F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B885D1-DD9B-4FE1-9557-B635EF874BF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5" name="Picture 5" descr="Screen shot 2011-10-04 at 9.21.35 PM.png"/>
          <p:cNvPicPr/>
          <p:nvPr/>
        </p:nvPicPr>
        <p:blipFill>
          <a:blip r:embed="rId2"/>
          <a:stretch/>
        </p:blipFill>
        <p:spPr>
          <a:xfrm>
            <a:off x="2819520" y="1828800"/>
            <a:ext cx="3581280" cy="3268800"/>
          </a:xfrm>
          <a:prstGeom prst="rect">
            <a:avLst/>
          </a:prstGeom>
          <a:ln w="0">
            <a:noFill/>
          </a:ln>
        </p:spPr>
      </p:pic>
      <p:sp>
        <p:nvSpPr>
          <p:cNvPr id="536" name="TextBox 6"/>
          <p:cNvSpPr/>
          <p:nvPr/>
        </p:nvSpPr>
        <p:spPr>
          <a:xfrm>
            <a:off x="750960" y="1219320"/>
            <a:ext cx="3440160" cy="1739880"/>
          </a:xfrm>
          <a:prstGeom prst="rect">
            <a:avLst/>
          </a:prstGeom>
          <a:solidFill>
            <a:srgbClr val="fab93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HUMAN RATED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vels of mean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nguage conventionalit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arit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nowledge demand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TextBox 7"/>
          <p:cNvSpPr/>
          <p:nvPr/>
        </p:nvSpPr>
        <p:spPr>
          <a:xfrm>
            <a:off x="5029200" y="1219320"/>
            <a:ext cx="3440160" cy="1739880"/>
          </a:xfrm>
          <a:prstGeom prst="rect">
            <a:avLst/>
          </a:prstGeom>
          <a:solidFill>
            <a:srgbClr val="e0603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OMPUTER SCORED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ord lengt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ord frequenc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ntence lengt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xt Cohes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-Metrix and Lexile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TextBox 8"/>
          <p:cNvSpPr/>
          <p:nvPr/>
        </p:nvSpPr>
        <p:spPr>
          <a:xfrm>
            <a:off x="1295280" y="4444920"/>
            <a:ext cx="2133720" cy="1191240"/>
          </a:xfrm>
          <a:prstGeom prst="rect">
            <a:avLst/>
          </a:prstGeom>
          <a:solidFill>
            <a:srgbClr val="a6a6a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tiv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nowledg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perienc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TextBox 9"/>
          <p:cNvSpPr/>
          <p:nvPr/>
        </p:nvSpPr>
        <p:spPr>
          <a:xfrm>
            <a:off x="5943600" y="4497480"/>
            <a:ext cx="2525760" cy="1191240"/>
          </a:xfrm>
          <a:prstGeom prst="rect">
            <a:avLst/>
          </a:prstGeom>
          <a:solidFill>
            <a:srgbClr val="a6a6a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urpose/Contex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lexit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estions Pos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Title 1"/>
          <p:cNvSpPr/>
          <p:nvPr/>
        </p:nvSpPr>
        <p:spPr>
          <a:xfrm>
            <a:off x="750960" y="655560"/>
            <a:ext cx="82296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mmon Core Standa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TextBox 11"/>
          <p:cNvSpPr/>
          <p:nvPr/>
        </p:nvSpPr>
        <p:spPr>
          <a:xfrm>
            <a:off x="4787280" y="5829480"/>
            <a:ext cx="362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-5! Teacher, text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ader, &amp; task/contex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TextBox 12"/>
          <p:cNvSpPr/>
          <p:nvPr/>
        </p:nvSpPr>
        <p:spPr>
          <a:xfrm>
            <a:off x="372240" y="5867280"/>
            <a:ext cx="382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ich of the FIVE factor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comprehension?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5T01:18:56Z</dcterms:created>
  <dc:creator>annemari</dc:creator>
  <dc:description/>
  <dc:language>en-US</dc:language>
  <cp:lastModifiedBy>Julie Coiro</cp:lastModifiedBy>
  <cp:lastPrinted>2009-07-26T16:58:48Z</cp:lastPrinted>
  <dcterms:modified xsi:type="dcterms:W3CDTF">2011-10-05T03:02:20Z</dcterms:modified>
  <cp:revision>65</cp:revision>
  <dc:subject/>
  <dc:title>Slide 1</dc:title>
</cp:coreProperties>
</file>